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A10-9596-4DCA-94E0-56A57C3B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811-BB9A-4B25-910B-E44F1B4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172-E144-4FDE-822F-086CA521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3B6-4EBD-4588-A077-F73D8692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6A92-4C98-4375-A48F-E8401B5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FEC-BD0B-434A-9CA7-208E430C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42E7-58A9-4307-A964-F4C82E2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AEDD-ADC2-41BF-AE0F-E26D1876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18B7-06F1-4E4B-9580-A140BE0B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0803-055C-4E25-A9F6-BD9988C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65D0-1134-4C06-81C7-A267E8C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839-327B-4D38-B660-A4A5204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6F6D-A20E-4574-B3A7-5A17890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FD6-7B7A-42D2-818C-E9345C1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7F10-51D9-4C7E-AE0B-F80BEC36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7126-B76C-4218-9817-EADA8808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40E-35DE-4A4D-A2B6-59DCC864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176-D958-4D79-B6F7-0F596C84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769-7F59-4E88-BFC6-E064A61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CA8-18ED-41E4-A48A-9A7DC1A2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6E0-E117-4605-B115-3D2E528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B8F-DE88-44EE-A5AB-E17D84F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A92-64EA-4412-AD8D-65496746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1EC-E502-43FB-96CC-37DE836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51B-438E-4AF9-9BD0-7B69F7A3E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6F8-5FC6-4EE0-A278-F10D214E216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GCSE Media Stud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elcome to Media Studies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ourse Out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Arial"/>
              </a:rPr>
              <a:t>The course consists of 3 unit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f8"/>
                </a:solidFill>
                <a:latin typeface="Arial"/>
              </a:rPr>
              <a:t>B321 </a:t>
            </a:r>
            <a:r>
              <a:rPr b="1" lang="en-GB" sz="3200" spc="-1" strike="noStrike">
                <a:solidFill>
                  <a:srgbClr val="f8f8f8"/>
                </a:solidFill>
                <a:latin typeface="Times New Roman"/>
              </a:rPr>
              <a:t>–</a:t>
            </a:r>
            <a:r>
              <a:rPr b="1" lang="en-GB" sz="3200" spc="-1" strike="noStrike">
                <a:solidFill>
                  <a:srgbClr val="f8f8f8"/>
                </a:solidFill>
                <a:latin typeface="Arial"/>
              </a:rPr>
              <a:t> Individual Media Studies Portfolio (30%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f8"/>
                </a:solidFill>
                <a:latin typeface="Arial"/>
              </a:rPr>
              <a:t>B322 Textual Analysis and Media Studies Topic (Moving image) (40%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f8"/>
                </a:solidFill>
                <a:latin typeface="Arial"/>
              </a:rPr>
              <a:t>B324 </a:t>
            </a:r>
            <a:r>
              <a:rPr b="1" lang="en-GB" sz="3200" spc="-1" strike="noStrike">
                <a:solidFill>
                  <a:srgbClr val="f8f8f8"/>
                </a:solidFill>
                <a:latin typeface="Times New Roman"/>
              </a:rPr>
              <a:t>–</a:t>
            </a:r>
            <a:r>
              <a:rPr b="1" lang="en-GB" sz="3200" spc="-1" strike="noStrike">
                <a:solidFill>
                  <a:srgbClr val="f8f8f8"/>
                </a:solidFill>
                <a:latin typeface="Arial"/>
              </a:rPr>
              <a:t> Production Portfolio in Media Studies (30%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321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Individual Media Studies Portfolio 30%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Arial"/>
              </a:rPr>
              <a:t>The portfolio consists of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Arial"/>
              </a:rPr>
              <a:t>An analytical assignment (60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Arial"/>
              </a:rPr>
              <a:t>A production exercise (40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Arial"/>
              </a:rPr>
              <a:t>Planning and evaluation (20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B322: Textual Analysis and Media Studies Topic (Moving Image) 40%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Section A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Unseen moving image extract 3-5 mins long from action adventure genr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3 questions assessing key concepts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Ø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     </a:t>
            </a:r>
            <a:r>
              <a:rPr b="0" lang="en-GB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Genr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Ø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     </a:t>
            </a:r>
            <a:r>
              <a:rPr b="0" lang="en-GB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Media Languag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Ø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     </a:t>
            </a:r>
            <a:r>
              <a:rPr b="0" lang="en-GB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Arial"/>
                <a:ea typeface="Arial"/>
              </a:rPr>
              <a:t>Representati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Section 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TV comed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1 compulsory question assessing key concepts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  <a:ea typeface="Arial"/>
              </a:rPr>
              <a:t>Ø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     </a:t>
            </a: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Audie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Institution</a:t>
            </a: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Unit B324 Production Portfolio 30%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Print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A print-based advertising campaign for a new product, such as a new clothing range, to includ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A brand name desig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2 full page magazine advertisements and a billboard poster using original photograph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  <a:ea typeface="Arial"/>
              </a:rPr>
              <a:t>(if candidates are working in a group each group member must produce at least one advertisement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7:54:00Z</dcterms:created>
  <dc:creator>vbond</dc:creator>
  <dc:description/>
  <dc:language>en-US</dc:language>
  <cp:lastModifiedBy>kbrookes</cp:lastModifiedBy>
  <dcterms:modified xsi:type="dcterms:W3CDTF">2010-06-07T10:32:32Z</dcterms:modified>
  <cp:revision>2</cp:revision>
  <dc:subject/>
  <dc:title>PowerPoint Presentation</dc:title>
</cp:coreProperties>
</file>